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5F25C-65B0-4FE1-9AC9-726D5AC5D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47813-0264-4B77-9BA2-B3173F1A7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7EF13-E65B-416E-942C-8218FBCAF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18AF3-01F4-4A2A-B90C-B1FB98CB5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F32CD-8AB7-458F-B091-558BF6460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D96A2-F3B1-4588-8DDB-F250D65D4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6F71F-85FB-465F-97EE-3B2A7A0EA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5BB5C-D84F-4FA4-80A2-B23018FBD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07F65-1BA5-46F1-8559-E88FCCBF0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A2E44-AD16-4CA5-B980-586056555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0965A-FB6E-49C2-8987-316CCB8C3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513DB-1469-4043-AF90-EBF3093B4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0F390-0C44-446E-AA08-B487017265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-826200" y="720"/>
            <a:ext cx="63529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comic"/>
              </a:rPr>
              <a:t>                  </a:t>
            </a:r>
            <a:r>
              <a:rPr b="1" lang="en-US" sz="3600" spc="-1" strike="noStrike">
                <a:solidFill>
                  <a:srgbClr val="808080"/>
                </a:solidFill>
                <a:latin typeface="comic"/>
              </a:rPr>
              <a:t>71</a:t>
            </a:r>
            <a:r>
              <a:rPr b="1" lang="en-US" sz="3600" spc="-1" strike="noStrike">
                <a:solidFill>
                  <a:srgbClr val="ffff00"/>
                </a:solidFill>
                <a:latin typeface="Monotype Corsiv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Monotype Corsiva"/>
              </a:rPr>
              <a:t>Исусе, с наште грехове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Monotype Corsiva"/>
              </a:rPr>
              <a:t>Ти натоварен бе;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Monotype Corsiva"/>
              </a:rPr>
              <a:t>най-тежки мъки изтърпя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Monotype Corsiva"/>
              </a:rPr>
              <a:t>и свята кръв проля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8604360" y="63086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advTm="21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-15840"/>
            <a:ext cx="9144000" cy="68896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154240" y="-157680"/>
            <a:ext cx="68817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cc"/>
                </a:solidFill>
                <a:latin typeface="comic"/>
              </a:rPr>
              <a:t>Припев:</a:t>
            </a:r>
            <a:r>
              <a:rPr b="1" lang="en-US" sz="3600" spc="-1" strike="noStrike">
                <a:solidFill>
                  <a:srgbClr val="808080"/>
                </a:solidFill>
                <a:latin typeface="comic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Monotype Corsiva"/>
              </a:rPr>
              <a:t>О, как е Спасът милостив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Monotype Corsiva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Monotype Corsiva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Monotype Corsiva"/>
              </a:rPr>
              <a:t>	</a:t>
            </a:r>
            <a:r>
              <a:rPr b="1" lang="bg-BG" sz="3600" spc="-1" strike="noStrike">
                <a:solidFill>
                  <a:srgbClr val="ffff00"/>
                </a:solidFill>
                <a:latin typeface="Monotype Corsiva"/>
              </a:rPr>
              <a:t>п</a:t>
            </a:r>
            <a:r>
              <a:rPr b="1" lang="en-US" sz="3600" spc="-1" strike="noStrike">
                <a:solidFill>
                  <a:srgbClr val="ffff00"/>
                </a:solidFill>
                <a:latin typeface="Monotype Corsiva"/>
              </a:rPr>
              <a:t>рощава грехове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Monotype Corsiva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Monotype Corsiva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Monotype Corsiva"/>
              </a:rPr>
              <a:t>Със вяра в Него ще съм жи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Monotype Corsiva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Monotype Corsiva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Monotype Corsiva"/>
              </a:rPr>
              <a:t>	</a:t>
            </a:r>
            <a:r>
              <a:rPr b="1" lang="bg-BG" sz="3600" spc="-1" strike="noStrike">
                <a:solidFill>
                  <a:srgbClr val="ffff00"/>
                </a:solidFill>
                <a:latin typeface="Monotype Corsiva"/>
              </a:rPr>
              <a:t>д</a:t>
            </a:r>
            <a:r>
              <a:rPr b="1" lang="en-US" sz="3600" spc="-1" strike="noStrike">
                <a:solidFill>
                  <a:srgbClr val="ffff00"/>
                </a:solidFill>
                <a:latin typeface="Monotype Corsiva"/>
              </a:rPr>
              <a:t>о вечни векове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2000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355920" y="-26640"/>
            <a:ext cx="6604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Monotype Corsiva"/>
              </a:rPr>
              <a:t>Умря Той да помилва нас,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Monotype Corsiva"/>
              </a:rPr>
              <a:t>живот да ни даде!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Monotype Corsiva"/>
              </a:rPr>
              <a:t>Когато дойде сам Христос,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Monotype Corsiva"/>
              </a:rPr>
              <a:t>нас в рай ще заведе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0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-15840"/>
            <a:ext cx="9144000" cy="68896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154240" y="-157680"/>
            <a:ext cx="68817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cc"/>
                </a:solidFill>
                <a:latin typeface="comic"/>
              </a:rPr>
              <a:t>Припев:</a:t>
            </a:r>
            <a:r>
              <a:rPr b="1" lang="en-US" sz="3600" spc="-1" strike="noStrike">
                <a:solidFill>
                  <a:srgbClr val="808080"/>
                </a:solidFill>
                <a:latin typeface="comic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Monotype Corsiva"/>
              </a:rPr>
              <a:t>О, как е Спасът милостив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Monotype Corsiva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Monotype Corsiva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Monotype Corsiva"/>
              </a:rPr>
              <a:t>	</a:t>
            </a:r>
            <a:r>
              <a:rPr b="1" lang="bg-BG" sz="3600" spc="-1" strike="noStrike">
                <a:solidFill>
                  <a:srgbClr val="ffff00"/>
                </a:solidFill>
                <a:latin typeface="Monotype Corsiva"/>
              </a:rPr>
              <a:t>п</a:t>
            </a:r>
            <a:r>
              <a:rPr b="1" lang="en-US" sz="3600" spc="-1" strike="noStrike">
                <a:solidFill>
                  <a:srgbClr val="ffff00"/>
                </a:solidFill>
                <a:latin typeface="Monotype Corsiva"/>
              </a:rPr>
              <a:t>рощава грехове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Monotype Corsiva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Monotype Corsiva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Monotype Corsiva"/>
              </a:rPr>
              <a:t>Със вяра в Него ще съм жи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Monotype Corsiva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Monotype Corsiva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Monotype Corsiva"/>
              </a:rPr>
              <a:t>	</a:t>
            </a:r>
            <a:r>
              <a:rPr b="1" lang="bg-BG" sz="3600" spc="-1" strike="noStrike">
                <a:solidFill>
                  <a:srgbClr val="ffff00"/>
                </a:solidFill>
                <a:latin typeface="Monotype Corsiva"/>
              </a:rPr>
              <a:t>д</a:t>
            </a:r>
            <a:r>
              <a:rPr b="1" lang="en-US" sz="3600" spc="-1" strike="noStrike">
                <a:solidFill>
                  <a:srgbClr val="ffff00"/>
                </a:solidFill>
                <a:latin typeface="Monotype Corsiva"/>
              </a:rPr>
              <a:t>о вечни векове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2000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-814680" y="-26640"/>
            <a:ext cx="6890760" cy="2288520"/>
          </a:xfrm>
          <a:prstGeom prst="rect">
            <a:avLst/>
          </a:prstGeom>
          <a:gradFill rotWithShape="0">
            <a:gsLst>
              <a:gs pos="0">
                <a:srgbClr val="000000">
                  <a:alpha val="40000"/>
                </a:srgbClr>
              </a:gs>
              <a:gs pos="100000">
                <a:srgbClr val="000000">
                  <a:alpha val="4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Monotype Corsiva"/>
              </a:rPr>
              <a:t>Живей Ти в мене, о, Христе,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Monotype Corsiva"/>
              </a:rPr>
              <a:t>с Отца царувай там!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Monotype Corsiva"/>
              </a:rPr>
              <a:t>Обител Своя туй сърце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Monotype Corsiva"/>
              </a:rPr>
              <a:t>Ти направи и храм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0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-15840"/>
            <a:ext cx="9144000" cy="68896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2154240" y="-157680"/>
            <a:ext cx="68817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cc"/>
                </a:solidFill>
                <a:latin typeface="comic"/>
              </a:rPr>
              <a:t>Припев:</a:t>
            </a:r>
            <a:r>
              <a:rPr b="1" lang="en-US" sz="3600" spc="-1" strike="noStrike">
                <a:solidFill>
                  <a:srgbClr val="808080"/>
                </a:solidFill>
                <a:latin typeface="comic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Monotype Corsiva"/>
              </a:rPr>
              <a:t>О, как е Спасът милостив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Monotype Corsiva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Monotype Corsiva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Monotype Corsiva"/>
              </a:rPr>
              <a:t>	</a:t>
            </a:r>
            <a:r>
              <a:rPr b="1" lang="bg-BG" sz="3600" spc="-1" strike="noStrike">
                <a:solidFill>
                  <a:srgbClr val="ffff00"/>
                </a:solidFill>
                <a:latin typeface="Monotype Corsiva"/>
              </a:rPr>
              <a:t>п</a:t>
            </a:r>
            <a:r>
              <a:rPr b="1" lang="en-US" sz="3600" spc="-1" strike="noStrike">
                <a:solidFill>
                  <a:srgbClr val="ffff00"/>
                </a:solidFill>
                <a:latin typeface="Monotype Corsiva"/>
              </a:rPr>
              <a:t>рощава грехове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Monotype Corsiva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Monotype Corsiva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Monotype Corsiva"/>
              </a:rPr>
              <a:t>Със вяра в Него ще съм жи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Monotype Corsiva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Monotype Corsiva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Monotype Corsiva"/>
              </a:rPr>
              <a:t>	</a:t>
            </a:r>
            <a:r>
              <a:rPr b="1" lang="bg-BG" sz="3600" spc="-1" strike="noStrike">
                <a:solidFill>
                  <a:srgbClr val="ffff00"/>
                </a:solidFill>
                <a:latin typeface="Monotype Corsiva"/>
              </a:rPr>
              <a:t>д</a:t>
            </a:r>
            <a:r>
              <a:rPr b="1" lang="en-US" sz="3600" spc="-1" strike="noStrike">
                <a:solidFill>
                  <a:srgbClr val="ffff00"/>
                </a:solidFill>
                <a:latin typeface="Monotype Corsiva"/>
              </a:rPr>
              <a:t>о вечни векове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7000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3T18:31:45Z</dcterms:created>
  <dc:creator>TrifonTrifonow</dc:creator>
  <dc:description/>
  <dc:language>en-US</dc:language>
  <cp:lastModifiedBy>TrifonTrifonow</cp:lastModifiedBy>
  <dcterms:modified xsi:type="dcterms:W3CDTF">2005-11-23T18:48:38Z</dcterms:modified>
  <cp:revision>6</cp:revision>
  <dc:subject/>
  <dc:title>Slide 1</dc:title>
</cp:coreProperties>
</file>